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ickie Linville" initials="VL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0-05-06T22:21:31.407000000" idx="1">
    <p:pos x="1738" y="2678"/>
    <p:text>Does a basset hound ever express happiness?  If so, how?</p:text>
  </p:cm>
  <p:cm authorId="0" dt="2010-05-06T22:23:02.667000000" idx="2">
    <p:pos x="5575" y="192"/>
    <p:text>If this is a basset hound farm, why are there no people or dogs pictured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B1F-34C6-4B85-A759-3471F903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420-2766-4D68-987B-AA93FDE2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932C5-17FC-46C0-B0AA-707928D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EB1F00-6E05-43A9-ABEB-C4BC243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6129E-E611-442E-99C3-1235CD9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94156-2408-4E3A-AB66-53C33D1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EF63D-34CB-46B1-9113-B43EC7A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7BE52-AF51-4DD4-87F6-45DE28C5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70411-002F-4BAF-9CB3-35A36E2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35EDC-9EF0-4029-AA53-5BD097D3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6ABE0-2C29-4F21-A340-E7EAC61C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E22-F968-413E-922A-DAA5EEAF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409-8F2E-4551-81F3-2877B054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16431-7ABB-4F64-AA9E-5049C45F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F3DA-61B3-4A49-B506-6F495C2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6B8B6-A78C-46CA-93FB-0390138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27D73-B0BB-40A6-83B3-7A0ACD7D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681E5-1A4F-4B3A-8B35-E05B3116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2C14-B8CD-4D62-B566-5D7C631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63B0F-1AD0-46EB-8699-B1FD7B2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C7F-50F0-4673-8825-63C0E85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7CAF9-10F4-4537-B522-F4706C6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3E171-4A2E-4C74-83DD-1995CF9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EA47E-E2D4-40C9-9ADE-00178B9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8244-763B-4684-A08D-78899304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18B4-50BF-45DB-973D-E03FA9D9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A752-1167-407F-B67C-33718DAD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2F49-ECCC-4645-9CFE-69D0CC2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8A6C-92C1-405F-8449-D34CDE20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E4B6-782F-41C8-815F-8CE1E32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3A65-CB27-4EA2-968D-F2D64F57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842-D48D-4B93-8FA3-956F9B3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6A7F-76C5-4015-B070-0892E00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5802-DD78-45AC-9FFD-7BC7D66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D109-621E-4711-AB28-2DFBC81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2170-8D30-484B-9E80-91818D8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5AAC-5821-4F68-83AD-DB4D931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C890-FEA9-416D-83D7-E0E19B87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B38E-EAE8-4F2B-B2A6-27A426FA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B375A-E4CA-4539-9AD3-C0DB7534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BB35D-2941-4F9B-8B9D-AE740DB6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79666-A21C-4091-ACE2-98BD706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5B9-2944-4CCD-98CF-1C01BA1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87FE2-135D-4C13-B08D-718A55E8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BC2D9-CB4D-46CF-98E8-2360B221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6107C-9B64-4BE7-9D1B-9888B238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3CD68-A499-48E0-8CAE-21A0AA8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9440A3-88E2-4BA4-AB0C-9B4B8C1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F318C-6C80-4309-A852-6D9023E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DDA00-B61F-40CD-820E-7F5B4BA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8D6BF-1DEA-4490-AAA8-996A2EC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DF4C2-46EF-4128-95DA-2FB270DE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B5AF-B4FD-4EC6-92D5-10F7224D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0CF-8958-450A-83F8-3B8E1CA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42A4-2D35-42FD-8950-3C09E99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0EEE-4DA0-4F0E-999C-04FF7257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4E68-807E-4FDC-AE3C-8945F6FD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896B-CD4C-4F6D-89F2-127FF093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852F2-BBC6-43FB-8CED-895C0229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4DFE-495B-4498-B7AA-186253C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8F12-4CC0-40C3-8326-035D1BD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EC52-37CA-4A36-A075-E68212F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C899-C1BF-44C1-90EE-274B131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9DBE-02A4-49EE-92BE-9E420247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B0C-CD44-46FD-8B27-72188CE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42FD-FB36-493F-9AD1-DA2B1E02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09E94-7CF2-4D3B-AE32-045FBAE3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3F65-C956-49EA-BF78-9F49C56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930F-EE26-42BF-AE86-5D2BC86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55A9-1E29-479C-AA05-25A4B54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659A-9C2E-4AA7-AD1C-C7D5CC9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4E62-DB86-4FE4-8251-0B79F45D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6D00-4D06-454A-BB48-6DFEABB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5721E-81EE-43B8-9420-52818BB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ABA7-E100-4E86-9F72-21EB1A0F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64C-FC86-4D56-BF9F-6286947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33B5-717E-45B1-BE9F-39F4527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8B79B-804E-4B63-A414-73055A8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4D73-1BBD-40F6-BECA-F565077E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B5238-6623-424A-888E-35BC18FC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8B3B8-BD6E-4358-9B10-270EEAA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61CA-B56C-40F9-8371-7B9E68A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2EDD-D99A-4307-A291-0EE4BAD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90D8-CD19-43B9-A68F-F62DFAB2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2058-993C-4C82-B32F-A143977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8096A-F736-414A-9C49-1A51BC3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306-8E1E-4CD2-B0F5-C205D56F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44CE-DCFE-4741-9F0F-5511D3D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DBEA-E269-44AA-9C23-67D8DDB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F232-8931-49A8-9EB0-894D052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5B9D-D870-44A0-85E3-A7D9C804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31C7-2BC8-4963-A78E-9D42D183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E5198-8CD9-42B0-84D7-9E78DC4F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67661-551F-4214-B9DB-5624EA2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E2489-A2A0-42EC-BBE0-B413F72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6C662-1E21-4E9A-9E2D-846BD036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DC65B-89ED-40F0-922F-894A6D6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1DB-0147-4095-8E03-7A5AE75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C7EFC-E5A3-4919-B67D-675813EA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1A3DC-45FE-4276-9861-DBC1A80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6B453-4DBD-4532-87CC-13B8B39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93065-B6FA-42EC-B52D-75965AC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AC248-D7F4-4D3C-B383-84782910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1EA1D-E9F0-4BA0-AEFF-9D5950A8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8B132-8AF5-4E00-B6CB-BAF74A2D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4F067-6BF5-4669-B2BD-33A2E821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0DC0A-7460-45DD-BB6D-862CC1B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B63BC-66C8-4805-8666-2BEAAF8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268C-310E-4D94-95E1-9DDC88402F2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6608-83DE-494F-BBC9-C3F2A3EC0FB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5213-4F8A-4A0E-A546-3D058669049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5E47-0EEB-41B6-AD70-671AA403C43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9EC-B406-455D-BECB-A39BE186C43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04F-FCA8-48CA-BF25-2A62A441011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1A0E-CF7C-4423-8016-CA679EFDA9A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A20-D466-4CE6-BDC8-47D1E3189250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88F-2208-4A26-B5C6-1EF4465AAF5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bookstorecommunity.com/wp-content/uploads/2010/03/applewhites.jpg" TargetMode="External"/><Relationship Id="rId3" Type="http://schemas.openxmlformats.org/officeDocument/2006/relationships/hyperlink" Target="http://nancykeane.com/booktalks/tolan_surviving.htm" TargetMode="External"/><Relationship Id="rId4" Type="http://schemas.openxmlformats.org/officeDocument/2006/relationships/hyperlink" Target="http://www.answers.com/topic/annotate" TargetMode="External"/><Relationship Id="rId5" Type="http://schemas.openxmlformats.org/officeDocument/2006/relationships/hyperlink" Target="http://www.ilearnincambodia.org/sskills/activeread.pdf" TargetMode="External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Booktalk%20for%20Active%20Reading%20Intro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ds.yahoo.com/_ylt=A0geu539c.NLjWEARh5XNyoA;_ylu=X3oDMTBzM2lkdmdsBHNlYwNzYwRjb2xvA2FjMgR2dGlkA0Y5MTlfOTA-/SIG=1nbmm0huc/EXP=1273283965/**http%3A//images.search.yahoo.com/images/view%3Fback=http%253A%252F%252Fsearch.yahoo.com%252Fsearch%253Fei%253DUTF-8%2526p%253Dbasset%252Bhound%252Bpictures%2526sado%253D1%26w=593%26h=480%26imgurl=www.infomascota.com%252Fcomunidad%252Falbum%252Fdata%252Fmedia%252F1%252Fbasset_hound.jpg%26size=35.9kB%26name=basset%2Bhound%2Bjpg%26rcurl=http%253A%252F%252Fwww.nocturnabsas.com.ar%252Fforum%252Fmascotas-y-animales%252F254891-basset-hound.html%26rurl=http%253A%252F%252Fwww.nocturnabsas.com.ar%252Fforum%252Fmascotas-y-animales%252F254891-basset-hound.html%26p=basset%2Bhound%26type=jpeg%26no=3%26tt=275%252C577%26oid=74e351be7af428ac%26tit=basset%2Bhound%2Bjpg%26sigr=12hoh9pg0%26sigi=121qs761q%26sigb=126vgbk0r%26fr=affiliates_kw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techsteps.com/T8x/prj/prj_main.aspx?g=7" TargetMode="External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74200" cy="22492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echSteps Project 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107720" y="525780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:  What does it mean to participate in ‘active reading?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6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8264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ttp://kidsbooks4less.com/novels/applewhites.jpg"/>
          <p:cNvPicPr/>
          <p:nvPr/>
        </p:nvPicPr>
        <p:blipFill>
          <a:blip r:embed="rId1"/>
          <a:stretch/>
        </p:blipFill>
        <p:spPr>
          <a:xfrm>
            <a:off x="4495680" y="152280"/>
            <a:ext cx="4419720" cy="655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http://www.rebeccacaudill.org/teacher/covergallery/2005/surv-app.jpg"/>
          <p:cNvPicPr/>
          <p:nvPr/>
        </p:nvPicPr>
        <p:blipFill>
          <a:blip r:embed="rId2"/>
          <a:stretch/>
        </p:blipFill>
        <p:spPr>
          <a:xfrm>
            <a:off x="152280" y="228600"/>
            <a:ext cx="4343400" cy="64404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457200" y="6477120"/>
            <a:ext cx="380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ttp://www.rebeccacaudill.org/teacher/covergallery/2005/surv-app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724280" y="647712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ttp://bookstorecommunity.com/wp-content/uploads/2010/03/applewhites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699760" cy="13604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533520" y="1549440"/>
            <a:ext cx="8458200" cy="10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Arial"/>
                <a:hlinkClick r:id="rId2"/>
              </a:rPr>
              <a:t>http://bookstorecommunity.com/wp-content/uploads/2010/03/applewhite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nancykeane.com/booktalks/tolan_surviving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4"/>
              </a:rPr>
              <a:t>http://www.answers.com/topic/anno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Arial"/>
                <a:hlinkClick r:id="rId5"/>
              </a:rPr>
              <a:t>http://www.ilearnincambodia.org/sskills/activeread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www.infomascota.com/comunidad/album/data/media/1/basset_hound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beccacaudill.org/teacher/covergallery/2005/surv-app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www.taitsbassets.net/assets/images/taits-bassets-farm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hefreedictionary.com/electronic+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echstep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notate Digital Tex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EQ:  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What does it mean to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nnotate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 ‘digital text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notate a Digital Im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EQ: 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 What does it mean to annotate a ‘digital image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Title 4" descr=""/>
          <p:cNvPicPr/>
          <p:nvPr/>
        </p:nvPicPr>
        <p:blipFill>
          <a:blip r:embed="rId2"/>
          <a:stretch/>
        </p:blipFill>
        <p:spPr>
          <a:xfrm>
            <a:off x="450720" y="0"/>
            <a:ext cx="87426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42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124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an·no·tate  (n-tt)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·ed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·ing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es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tr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To furnish (a literary work) with critical commentary or explanatory notes; gloss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intr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To gloss a text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[Latin annotre, annott-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to note down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: ad-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ad-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+ notre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to write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(from nota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note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; see gn- in Indo-European roots).]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438880" y="5486400"/>
            <a:ext cx="30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nswers.com/topic/anno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407200" y="58672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hefreedictionary.com/anno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07600" cy="22428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 &amp; Complet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 Thursday, Ma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762120" y="3808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ligraph421 BT"/>
              </a:rPr>
              <a:t>Nancy Keane’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ligraph421 BT"/>
              </a:rPr>
              <a:t>Quick &amp; Simple Booktal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2666880" y="3429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ncykeane.com/booktalks/tolan_surviv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5430960" y="5486400"/>
            <a:ext cx="253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ord 2007 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1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428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 &amp; Complet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Friday, May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63840" y="4267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echSteps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http://www.taitsbassets.net/assets/images/taits-bassets-farm.jpg"/>
          <p:cNvPicPr/>
          <p:nvPr/>
        </p:nvPicPr>
        <p:blipFill>
          <a:blip r:embed="rId1"/>
          <a:stretch/>
        </p:blipFill>
        <p:spPr>
          <a:xfrm>
            <a:off x="380880" y="304920"/>
            <a:ext cx="8481960" cy="632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www.infomascota.com/comunidad/album/data/media/1/basset_houn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2819520" cy="2404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4876920" y="30492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http://www.taitsbassets.net/assets/images/taits-bassets-far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04920" y="65199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Rockwell"/>
              </a:rPr>
              <a:t>http://www.infomascota.com/comunidad/album/data/media/1/basset_hound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699760" cy="13604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4876920" y="617220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techsteps rubric for Active Re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15440" cy="22428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838836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EXIT SLIP) for to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py &amp; answer today’s EQ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What does it mean to participate in ‘active reading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4:08:09Z</dcterms:created>
  <dc:creator>Vickie Linville</dc:creator>
  <dc:description/>
  <dc:language>en-US</dc:language>
  <cp:lastModifiedBy>Vickie Linville</cp:lastModifiedBy>
  <dcterms:modified xsi:type="dcterms:W3CDTF">2010-05-09T04:24:12Z</dcterms:modified>
  <cp:revision>31</cp:revision>
  <dc:subject/>
  <dc:title>ACTIVE READING</dc:title>
</cp:coreProperties>
</file>